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DA7-E8CB-48F9-AD45-D8513854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9F5-FEA1-4940-AAE6-5B832E6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FD5-8572-4BDF-AA17-8FDD16FE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70E-6E50-44AE-A485-74FA8043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483-7D4B-440F-B358-EF28647E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2913-5375-45F6-B46E-CEF6A27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848-92EE-4719-A5C4-EE8A948A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F093-DC59-4FE1-BA43-0E79364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1A4-DE08-48B8-9CE5-EB161242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674A-B2B2-4E1D-A648-AE2B619B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B0B-F9F8-4E4E-9480-C29BF11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FA4-CC3D-4F40-BD07-28AE84B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FC01-2F35-482D-A01D-627BA6C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B948-E104-4BAB-8F07-3312069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19E-DB39-40D0-9134-52C88D53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0EA5-26EC-483D-957E-B37127B2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441C-B1C2-4D60-A057-DD745CE8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D15-7C39-44BF-A952-3B844BEE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54F-7A7B-4327-AD6A-109E1E20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DC1-801C-4C17-BDD6-61D10959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AC4-B408-43AB-BFF7-A02C5F2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EE4-F4EE-447D-96DB-BCC998A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F06-07E2-4EA4-A3B1-F4A6AF4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6CE-74CD-4997-AAB5-17FBA18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807-2BC2-4932-B00F-2CFED738D4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AAF-1CA4-41AF-84F0-E9382381C3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inciples of the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U.S. Constitu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431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8006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aration of P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44640" y="1897200"/>
            <a:ext cx="62294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ranch of Government has its own responsibilities and limita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—Congress has the power to make laws and to tax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I—The Executive Branch has the responsibility to carry out the law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II—The Judicial Branch settles disputes over the law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pular Sovereign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09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l authority for government flows from the people and they rule through their elected representativ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eo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224928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ound in Preamble:  “We the people, in order to form a more perfect union, . . . do ordain and establish this Constitution of the United States.”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so in Amendment IX, “The people retain rights not here enumerated.”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vidual Righ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lightenment scholars believed that there were natural or god-given rights that everyone was born with.  They suggested that the whole purpose of any government was to insure these individual righ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eclaration of Independence referred to “unalienable rights,” such as “life, liberty, and the pursuit of happiness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Bill of Rights was added to the U.S. Constitution in 1791 to protect individual rights, or civil libertie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20040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4440" y="624960"/>
            <a:ext cx="70470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e First Ten Amendments to the Constitu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09640" y="1600200"/>
            <a:ext cx="69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Freedom of speech, press, religion, assembly, and the right to petition the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The right to bear arms in state milit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The guarantee that civilians will 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to house sold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8. Protections for those accused of a cr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.  The guarantee that rights not specifically listed are not automatically denied to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The guarantee that the people and states keep the powers not specifically given to the federal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aze"/>
              </a:rPr>
              <a:t>The Bill of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Importance of Freedom of Speech and Freedom of the Press in a Democratic Socie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are these two freedoms considered essential to the survival of a democracy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umber one reason . . . To allow us to safely criticize our elected leaders and our government’s polic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is believed that, without this freedom, power would fall into the hands of powerful individuals that do not represent the will of the peop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2d16"/>
                </a:solidFill>
                <a:latin typeface="Arial"/>
              </a:rPr>
              <a:t>The Magna Carta-121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mited the power of the king by giving certain rights to nobles (later all citizen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from cruel and unusual punish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of life, liberty and prop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right to a fair and speedy trial by 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from taxation without cons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d the power of government beneath that of the written law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2d16"/>
                </a:solidFill>
                <a:latin typeface="Arial"/>
              </a:rPr>
              <a:t>The English Bill of Rights-1689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itish royalty agreed to accept this Bill of Rights establishing the supremacy of Parliament and guaranteeing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freedom of speech in Parli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rights to those accused of cr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eople would elect representatives to make laws and govern.  It was divided into a House of Lords and a House of Comm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 Ideas Upon Which Our Government Was Found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95400" y="1585080"/>
            <a:ext cx="5110560" cy="5015160"/>
            <a:chOff x="1895400" y="1585080"/>
            <a:chExt cx="5110560" cy="5015160"/>
          </a:xfrm>
        </p:grpSpPr>
        <p:sp>
          <p:nvSpPr>
            <p:cNvPr id="99" name="_s70699"/>
            <p:cNvSpPr/>
            <p:nvPr/>
          </p:nvSpPr>
          <p:spPr>
            <a:xfrm flipH="1" flipV="1">
              <a:off x="3431160" y="3374640"/>
              <a:ext cx="50940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70698"/>
            <p:cNvSpPr/>
            <p:nvPr/>
          </p:nvSpPr>
          <p:spPr>
            <a:xfrm>
              <a:off x="2270160" y="23209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mi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over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70697"/>
            <p:cNvSpPr/>
            <p:nvPr/>
          </p:nvSpPr>
          <p:spPr>
            <a:xfrm flipH="1">
              <a:off x="3179520" y="4332960"/>
              <a:ext cx="6364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70696"/>
            <p:cNvSpPr/>
            <p:nvPr/>
          </p:nvSpPr>
          <p:spPr>
            <a:xfrm>
              <a:off x="1895400" y="397548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divi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70695"/>
            <p:cNvSpPr/>
            <p:nvPr/>
          </p:nvSpPr>
          <p:spPr>
            <a:xfrm flipH="1">
              <a:off x="3883680" y="4772880"/>
              <a:ext cx="285840" cy="5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70694"/>
            <p:cNvSpPr/>
            <p:nvPr/>
          </p:nvSpPr>
          <p:spPr>
            <a:xfrm>
              <a:off x="2953080" y="52995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deral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70693"/>
            <p:cNvSpPr/>
            <p:nvPr/>
          </p:nvSpPr>
          <p:spPr>
            <a:xfrm>
              <a:off x="4732560" y="4771080"/>
              <a:ext cx="282960" cy="59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70692"/>
            <p:cNvSpPr/>
            <p:nvPr/>
          </p:nvSpPr>
          <p:spPr>
            <a:xfrm>
              <a:off x="4649760" y="52977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eck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l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70691"/>
            <p:cNvSpPr/>
            <p:nvPr/>
          </p:nvSpPr>
          <p:spPr>
            <a:xfrm>
              <a:off x="5081040" y="4330440"/>
              <a:ext cx="638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70690"/>
            <p:cNvSpPr/>
            <p:nvPr/>
          </p:nvSpPr>
          <p:spPr>
            <a:xfrm>
              <a:off x="5705280" y="39711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 Po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0689"/>
            <p:cNvSpPr/>
            <p:nvPr/>
          </p:nvSpPr>
          <p:spPr>
            <a:xfrm flipV="1">
              <a:off x="4956480" y="3374640"/>
              <a:ext cx="51156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0688"/>
            <p:cNvSpPr/>
            <p:nvPr/>
          </p:nvSpPr>
          <p:spPr>
            <a:xfrm>
              <a:off x="5326560" y="23191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public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70687"/>
            <p:cNvSpPr/>
            <p:nvPr/>
          </p:nvSpPr>
          <p:spPr>
            <a:xfrm flipV="1">
              <a:off x="4448880" y="2883240"/>
              <a:ext cx="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0686"/>
            <p:cNvSpPr/>
            <p:nvPr/>
          </p:nvSpPr>
          <p:spPr>
            <a:xfrm>
              <a:off x="3799440" y="158508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p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overeign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70685"/>
            <p:cNvSpPr/>
            <p:nvPr/>
          </p:nvSpPr>
          <p:spPr>
            <a:xfrm>
              <a:off x="3799440" y="35395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 the U.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mited Govern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s of government are limited by the constit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cles I, II, and III of the U.S. Constitution specify the powers and responsibilities of each bran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10880" y="2881440"/>
            <a:ext cx="6769800" cy="1475640"/>
            <a:chOff x="1010880" y="2881440"/>
            <a:chExt cx="6769800" cy="1475640"/>
          </a:xfrm>
        </p:grpSpPr>
        <p:cxnSp>
          <p:nvCxnSpPr>
            <p:cNvPr id="117" name="_s52236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479560" y="2430360"/>
              <a:ext cx="198720" cy="235980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52235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4298400" y="3608640"/>
              <a:ext cx="198720" cy="360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52234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117240" y="2427480"/>
              <a:ext cx="198720" cy="236592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52230"/>
            <p:cNvSpPr/>
            <p:nvPr/>
          </p:nvSpPr>
          <p:spPr>
            <a:xfrm>
              <a:off x="2212920" y="2881440"/>
              <a:ext cx="4370040" cy="630000"/>
            </a:xfrm>
            <a:prstGeom prst="roundRect">
              <a:avLst>
                <a:gd name="adj" fmla="val 16667"/>
              </a:avLst>
            </a:prstGeom>
            <a:solidFill>
              <a:srgbClr val="ec72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nstitutional Constra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52231"/>
            <p:cNvSpPr/>
            <p:nvPr/>
          </p:nvSpPr>
          <p:spPr>
            <a:xfrm>
              <a:off x="101088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Legislativ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52232"/>
            <p:cNvSpPr/>
            <p:nvPr/>
          </p:nvSpPr>
          <p:spPr>
            <a:xfrm>
              <a:off x="337320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Executiv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52233"/>
            <p:cNvSpPr/>
            <p:nvPr/>
          </p:nvSpPr>
          <p:spPr>
            <a:xfrm>
              <a:off x="573552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Judicia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publican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643572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ters elect representatives to exercise power for th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cated in Pream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&amp; Article 1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45840" y="3388320"/>
            <a:ext cx="3500280" cy="3033000"/>
            <a:chOff x="5145840" y="3388320"/>
            <a:chExt cx="3500280" cy="3033000"/>
          </a:xfrm>
        </p:grpSpPr>
        <p:sp>
          <p:nvSpPr>
            <p:cNvPr id="127" name="_s56343"/>
            <p:cNvSpPr/>
            <p:nvPr/>
          </p:nvSpPr>
          <p:spPr>
            <a:xfrm flipV="1">
              <a:off x="6312600" y="3387960"/>
              <a:ext cx="1166760" cy="1010520"/>
            </a:xfrm>
            <a:custGeom>
              <a:avLst/>
              <a:gdLst>
                <a:gd name="textAreaLeft" fmla="*/ 418680 w 1166760"/>
                <a:gd name="textAreaRight" fmla="*/ 748080 w 1166760"/>
                <a:gd name="textAreaTop" fmla="*/ 362520 h 1010520"/>
                <a:gd name="textAreaBottom" fmla="*/ 648000 h 10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Law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56339"/>
            <p:cNvSpPr/>
            <p:nvPr/>
          </p:nvSpPr>
          <p:spPr>
            <a:xfrm flipV="1">
              <a:off x="5729040" y="4398480"/>
              <a:ext cx="2333520" cy="1010520"/>
            </a:xfrm>
            <a:custGeom>
              <a:avLst/>
              <a:gdLst>
                <a:gd name="textAreaLeft" fmla="*/ 513000 w 2333520"/>
                <a:gd name="textAreaRight" fmla="*/ 1820520 w 2333520"/>
                <a:gd name="textAreaTop" fmla="*/ 222120 h 1010520"/>
                <a:gd name="textAreaBottom" fmla="*/ 788400 h 10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Representa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56338"/>
            <p:cNvSpPr/>
            <p:nvPr/>
          </p:nvSpPr>
          <p:spPr>
            <a:xfrm flipV="1">
              <a:off x="5145840" y="5409000"/>
              <a:ext cx="3500280" cy="1011960"/>
            </a:xfrm>
            <a:custGeom>
              <a:avLst/>
              <a:gdLst>
                <a:gd name="textAreaLeft" fmla="*/ 607680 w 3500280"/>
                <a:gd name="textAreaRight" fmla="*/ 2892600 w 3500280"/>
                <a:gd name="textAreaTop" fmla="*/ 175680 h 1011960"/>
                <a:gd name="textAreaBottom" fmla="*/ 83628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The Voting Publ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s and Bal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58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f the thr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ches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 so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 over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, sha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amo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cles I, II, I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31600" y="1016640"/>
            <a:ext cx="5204520" cy="5204520"/>
            <a:chOff x="3531600" y="1016640"/>
            <a:chExt cx="5204520" cy="5204520"/>
          </a:xfrm>
        </p:grpSpPr>
        <p:sp>
          <p:nvSpPr>
            <p:cNvPr id="133" name="_s62472"/>
            <p:cNvSpPr/>
            <p:nvPr/>
          </p:nvSpPr>
          <p:spPr>
            <a:xfrm>
              <a:off x="4229280" y="171432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62473"/>
            <p:cNvSpPr/>
            <p:nvPr/>
          </p:nvSpPr>
          <p:spPr>
            <a:xfrm rot="7200000">
              <a:off x="4228920" y="171396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62475"/>
            <p:cNvSpPr/>
            <p:nvPr/>
          </p:nvSpPr>
          <p:spPr>
            <a:xfrm rot="14400000">
              <a:off x="4228920" y="171396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2470"/>
            <p:cNvSpPr/>
            <p:nvPr/>
          </p:nvSpPr>
          <p:spPr>
            <a:xfrm>
              <a:off x="6927840" y="22446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ident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sue pard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rt can iss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 injunction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op executive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2471"/>
            <p:cNvSpPr/>
            <p:nvPr/>
          </p:nvSpPr>
          <p:spPr>
            <a:xfrm>
              <a:off x="5553000" y="46242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gress confi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ll judici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oint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rt can decl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ws unconstitution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2474"/>
            <p:cNvSpPr/>
            <p:nvPr/>
          </p:nvSpPr>
          <p:spPr>
            <a:xfrm>
              <a:off x="4178160" y="22446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ident can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to law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/3rds vote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gress c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ride his ve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15000" y="1752480"/>
            <a:ext cx="171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cu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9625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dic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der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is divided between the national and state governments, limiting central po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mendment states: “Powers not delegated to the federal government are reserved to the states and the people.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Federal System under the U.S. Constitu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08880" y="2644200"/>
            <a:ext cx="8604360" cy="2178360"/>
            <a:chOff x="308880" y="2644200"/>
            <a:chExt cx="8604360" cy="2178360"/>
          </a:xfrm>
        </p:grpSpPr>
        <p:sp>
          <p:nvSpPr>
            <p:cNvPr id="147" name="_s64520"/>
            <p:cNvSpPr/>
            <p:nvPr/>
          </p:nvSpPr>
          <p:spPr>
            <a:xfrm>
              <a:off x="4349880" y="2644200"/>
              <a:ext cx="2172960" cy="21736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_s64521"/>
            <p:cNvSpPr/>
            <p:nvPr/>
          </p:nvSpPr>
          <p:spPr>
            <a:xfrm>
              <a:off x="6740280" y="3460680"/>
              <a:ext cx="2172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240" rIns="165240" tIns="82440" bIns="82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Example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owers reserve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for the st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governmen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64522"/>
            <p:cNvSpPr/>
            <p:nvPr/>
          </p:nvSpPr>
          <p:spPr>
            <a:xfrm>
              <a:off x="2698560" y="2648880"/>
              <a:ext cx="2172960" cy="21736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64523"/>
            <p:cNvSpPr/>
            <p:nvPr/>
          </p:nvSpPr>
          <p:spPr>
            <a:xfrm>
              <a:off x="308880" y="3465720"/>
              <a:ext cx="2172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240" rIns="165240" tIns="82440" bIns="82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Example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ower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he natio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governm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666880" y="2590920"/>
            <a:ext cx="297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laring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ing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S.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ining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8195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e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ing for public   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48:08Z</dcterms:created>
  <dc:creator>007DP231</dc:creator>
  <dc:description/>
  <dc:language>en-US</dc:language>
  <cp:lastModifiedBy>emily.johnson</cp:lastModifiedBy>
  <dcterms:modified xsi:type="dcterms:W3CDTF">2012-10-02T13:01:47Z</dcterms:modified>
  <cp:revision>32</cp:revision>
  <dc:subject/>
  <dc:title>Designing America</dc:title>
</cp:coreProperties>
</file>